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13C-8BE4-4325-A3B9-ABBC10D3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493-2C6B-4874-8109-07EDAB5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6BF-E292-4CCD-9D21-D46D2ECE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5C4-F06A-4719-AF29-6A4A05D5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1BA5-8B06-43DD-8090-A952BC60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4F2-3B31-4542-908B-E833030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BAC7-8C71-45F4-9BD8-D51CA97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CDD-5100-4DE6-AA49-3C295AC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FBD-8329-4AAA-A7C0-C4161AD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3F80-DA35-4C42-8015-F13D3FE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9E6-E82F-4706-A4FB-E5CE31C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236-0B7E-4D6A-83B8-A1EF116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4079-ED88-4F68-A150-CA4896E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245-0B74-40A0-8719-AB0B259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BE49-0D0F-43D9-B569-2D4BD1DA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5E22-3261-4C67-BF86-F8BE0948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209-5D8B-4C23-9636-9691C312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50D-3A07-4348-990F-B5C71F3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D36-C23C-4CD9-9267-1722E68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E71-0C67-4EF1-BF24-B9CFA9EA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F7F-A051-4465-A460-CF00CA1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135-47AB-4351-8551-9C29248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228-29FD-4860-9C66-66408A7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1FC-A43F-4167-9739-83AA67B6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38BE-8712-49B7-9117-667A08B9B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DBB-5583-4270-BD7F-2E307754B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вадрат  Пифагора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19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йна даты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ов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4 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№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равило Составление Квадрата Пифагора на примере  даты рождения 11.07.1953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им на примере даты рождения: 11.07.19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м цифры дня и месяца рождения: 1+1+7=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м цифры года рождения: 1+9+5+3=1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м предыдущие результаты и получаем первое рабочее число: 9+18=2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м цифры первого рабочего числа и получаем второе рабочее число: 2+7=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ервого рабочего числа вычитаем удвоенную первую цифру дня рождения, так получается третье рабочее число: 27-(1+1)=2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следнее, четвертое рабочее число получаем из суммы цифр третьего рабочего числа: 2+5=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выпишете два ряда циф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остоит из цифр даты рождения: 11.07.19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- рабочих чисел: 27.9.25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11071953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279257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680" y="1600200"/>
          <a:ext cx="8001000" cy="45259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ифры от 1 до 9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8" name="Picture 4" descr="01_master"/>
          <p:cNvPicPr/>
          <p:nvPr/>
        </p:nvPicPr>
        <p:blipFill>
          <a:blip r:embed="rId1"/>
          <a:stretch/>
        </p:blipFill>
        <p:spPr>
          <a:xfrm>
            <a:off x="1332000" y="1773360"/>
            <a:ext cx="1793880" cy="208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"/>
          <p:cNvPicPr/>
          <p:nvPr/>
        </p:nvPicPr>
        <p:blipFill>
          <a:blip r:embed="rId2"/>
          <a:stretch/>
        </p:blipFill>
        <p:spPr>
          <a:xfrm>
            <a:off x="6156360" y="1484280"/>
            <a:ext cx="215892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б"/>
          <p:cNvPicPr/>
          <p:nvPr/>
        </p:nvPicPr>
        <p:blipFill>
          <a:blip r:embed="rId3"/>
          <a:stretch/>
        </p:blipFill>
        <p:spPr>
          <a:xfrm>
            <a:off x="4211640" y="1557360"/>
            <a:ext cx="1362240" cy="161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ealth2019"/>
          <p:cNvPicPr/>
          <p:nvPr/>
        </p:nvPicPr>
        <p:blipFill>
          <a:blip r:embed="rId4"/>
          <a:stretch/>
        </p:blipFill>
        <p:spPr>
          <a:xfrm>
            <a:off x="2843280" y="3429000"/>
            <a:ext cx="177300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5-1"/>
          <p:cNvPicPr/>
          <p:nvPr/>
        </p:nvPicPr>
        <p:blipFill>
          <a:blip r:embed="rId5"/>
          <a:stretch/>
        </p:blipFill>
        <p:spPr>
          <a:xfrm>
            <a:off x="5508720" y="357336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4" name="Picture 4" descr="i"/>
          <p:cNvPicPr/>
          <p:nvPr/>
        </p:nvPicPr>
        <p:blipFill>
          <a:blip r:embed="rId1"/>
          <a:stretch/>
        </p:blipFill>
        <p:spPr>
          <a:xfrm>
            <a:off x="539640" y="1413000"/>
            <a:ext cx="3168720" cy="252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7-0"/>
          <p:cNvPicPr/>
          <p:nvPr/>
        </p:nvPicPr>
        <p:blipFill>
          <a:blip r:embed="rId2"/>
          <a:stretch/>
        </p:blipFill>
        <p:spPr>
          <a:xfrm>
            <a:off x="611280" y="4149720"/>
            <a:ext cx="2550960" cy="159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8"/>
          <p:cNvPicPr/>
          <p:nvPr/>
        </p:nvPicPr>
        <p:blipFill>
          <a:blip r:embed="rId3"/>
          <a:stretch/>
        </p:blipFill>
        <p:spPr>
          <a:xfrm>
            <a:off x="5148360" y="1413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9"/>
          <p:cNvPicPr/>
          <p:nvPr/>
        </p:nvPicPr>
        <p:blipFill>
          <a:blip r:embed="rId4"/>
          <a:stretch/>
        </p:blipFill>
        <p:spPr>
          <a:xfrm>
            <a:off x="3276720" y="3500280"/>
            <a:ext cx="20574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70635"/>
          <p:cNvPicPr/>
          <p:nvPr/>
        </p:nvPicPr>
        <p:blipFill>
          <a:blip r:embed="rId1"/>
          <a:stretch/>
        </p:blipFill>
        <p:spPr>
          <a:xfrm>
            <a:off x="2195640" y="1773360"/>
            <a:ext cx="4546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Мой Квадрат Пифагора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01.08.2000г.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2" name="Picture 7" descr="Фото0106"/>
          <p:cNvPicPr/>
          <p:nvPr/>
        </p:nvPicPr>
        <p:blipFill>
          <a:blip r:embed="rId1"/>
          <a:stretch/>
        </p:blipFill>
        <p:spPr>
          <a:xfrm>
            <a:off x="1771560" y="1676520"/>
            <a:ext cx="1524240" cy="2031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11640" y="2637000"/>
          <a:ext cx="3924360" cy="309060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омоносов М. и Суворов А.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09.11.1711г.      13.11.1729г.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i"/>
          <p:cNvPicPr/>
          <p:nvPr/>
        </p:nvPicPr>
        <p:blipFill>
          <a:blip r:embed="rId1"/>
          <a:stretch/>
        </p:blipFill>
        <p:spPr>
          <a:xfrm>
            <a:off x="611280" y="1628640"/>
            <a:ext cx="3673440" cy="446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52298425_roslin15"/>
          <p:cNvPicPr/>
          <p:nvPr/>
        </p:nvPicPr>
        <p:blipFill>
          <a:blip r:embed="rId2"/>
          <a:stretch/>
        </p:blipFill>
        <p:spPr>
          <a:xfrm>
            <a:off x="5076720" y="1628640"/>
            <a:ext cx="345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1234"/>
          <p:cNvPicPr/>
          <p:nvPr/>
        </p:nvPicPr>
        <p:blipFill>
          <a:blip r:embed="rId1"/>
          <a:stretch/>
        </p:blipFill>
        <p:spPr>
          <a:xfrm>
            <a:off x="755640" y="549360"/>
            <a:ext cx="2879640" cy="414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G_0192"/>
          <p:cNvPicPr/>
          <p:nvPr/>
        </p:nvPicPr>
        <p:blipFill>
          <a:blip r:embed="rId2"/>
          <a:stretch/>
        </p:blipFill>
        <p:spPr>
          <a:xfrm>
            <a:off x="611280" y="2565360"/>
            <a:ext cx="3457440" cy="370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G_9860"/>
          <p:cNvPicPr/>
          <p:nvPr/>
        </p:nvPicPr>
        <p:blipFill>
          <a:blip r:embed="rId3"/>
          <a:stretch/>
        </p:blipFill>
        <p:spPr>
          <a:xfrm>
            <a:off x="3780000" y="476280"/>
            <a:ext cx="3024000" cy="20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101110_15"/>
          <p:cNvPicPr/>
          <p:nvPr/>
        </p:nvPicPr>
        <p:blipFill>
          <a:blip r:embed="rId4"/>
          <a:stretch/>
        </p:blipFill>
        <p:spPr>
          <a:xfrm>
            <a:off x="4500720" y="2637000"/>
            <a:ext cx="3879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2-3"/>
          <p:cNvPicPr/>
          <p:nvPr/>
        </p:nvPicPr>
        <p:blipFill>
          <a:blip r:embed="rId1"/>
          <a:stretch/>
        </p:blipFill>
        <p:spPr>
          <a:xfrm>
            <a:off x="2050920" y="1557360"/>
            <a:ext cx="4392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2643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КВАДРАТ ПИФАГОРА (ПСИХОМАТРИЦЫ)  И ПОКАЗАТЬ НЕОБХОДИМОСТЬ ЕГО СОСТАВЛЕНИЯ ДЛЯ КАЖДОГО ЧЕЛОВЕКА.</a:t>
            </a:r>
            <a:br>
              <a:rPr sz="4000"/>
            </a:br>
            <a:endParaRPr b="0" lang="en-US" sz="1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56800" y="713880"/>
            <a:ext cx="7486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Цель моей работы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7200" y="1499760"/>
            <a:ext cx="640080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ить структуру построения Квадрата Пифаг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анализировать значения чисел от 1до 9 по системе Пифаг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ся составлять психоматри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анализировать нумерологический код для отдельно взятого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ъектом исследования 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1720" y="2286000"/>
            <a:ext cx="700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вадрат Пифагора, предметом исследования является анализ данного квадрата и положительное влияние его составления для каждого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тоды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Метод сбора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Метод наблю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рактически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Нумеролог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ка нумерология, берущая начало в древности, гласит, что сущность человека заложена в дате рождения. Дата рождения – это числовой код. Каждый числовой код имеет свою характеристику. Попробуем выяснить, что Вам дано природ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40658718_1236417279_rubik_b"/>
          <p:cNvPicPr/>
          <p:nvPr/>
        </p:nvPicPr>
        <p:blipFill>
          <a:blip r:embed="rId1"/>
          <a:stretch/>
        </p:blipFill>
        <p:spPr>
          <a:xfrm>
            <a:off x="611280" y="3933720"/>
            <a:ext cx="76327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Учёные 19 века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6" name="Picture 7" descr="0003-003-Teorema"/>
          <p:cNvPicPr/>
          <p:nvPr/>
        </p:nvPicPr>
        <p:blipFill>
          <a:blip r:embed="rId1"/>
          <a:stretch/>
        </p:blipFill>
        <p:spPr>
          <a:xfrm>
            <a:off x="2340000" y="1484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Музыка Вселенной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8" name="Picture 5" descr="i"/>
          <p:cNvPicPr/>
          <p:nvPr/>
        </p:nvPicPr>
        <p:blipFill>
          <a:blip r:embed="rId1"/>
          <a:stretch/>
        </p:blipFill>
        <p:spPr>
          <a:xfrm>
            <a:off x="1566720" y="1600200"/>
            <a:ext cx="600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ифагор и его 4 цифры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0001rzt0"/>
          <p:cNvPicPr/>
          <p:nvPr/>
        </p:nvPicPr>
        <p:blipFill>
          <a:blip r:embed="rId1"/>
          <a:stretch/>
        </p:blipFill>
        <p:spPr>
          <a:xfrm>
            <a:off x="539640" y="1557360"/>
            <a:ext cx="367200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258219779_top1"/>
          <p:cNvPicPr/>
          <p:nvPr/>
        </p:nvPicPr>
        <p:blipFill>
          <a:blip r:embed="rId2"/>
          <a:stretch/>
        </p:blipFill>
        <p:spPr>
          <a:xfrm>
            <a:off x="4859280" y="1628640"/>
            <a:ext cx="3133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7:12:39Z</dcterms:created>
  <dc:creator>User</dc:creator>
  <dc:description/>
  <dc:language>en-US</dc:language>
  <cp:lastModifiedBy>Admin</cp:lastModifiedBy>
  <dcterms:modified xsi:type="dcterms:W3CDTF">2011-01-27T15:28:48Z</dcterms:modified>
  <cp:revision>4</cp:revision>
  <dc:subject/>
  <dc:title>Квадрат  Пифаго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